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306-2C85-4D31-BBE3-2E1C8D7E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F4E-9B66-4B7E-BBC0-0E619E0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CDB-5D87-4D5C-97EC-FEF761B5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1DD-BFDB-451D-9ACB-50CB8C5A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4134-7B4E-469C-B7E2-7B4DDB04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D39-79C7-423A-8CA9-10156CEB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5AA-B240-4C02-A9E0-9181D59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9C23-644D-4187-A679-8BE6040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E716-32AE-4D02-B4E2-4A3016C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8F18-535D-4177-B19F-7E20D72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5404-3C18-4A13-82A1-B5D03B5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D24-288A-41C8-8E5C-A5172F8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388-C1B8-4209-97B0-CA2374D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5B83-71EA-4C55-A0A8-157C721C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5CEE-9AF8-4B71-AE91-198B9F6E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94F-20EA-4D5B-BB3F-966A06FB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EB4-3288-42CA-AF24-71E25E9E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2A318-F816-4F2E-867F-2DC30872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5DD48-97CF-4A6A-9AE0-3EA03080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3A30D-A467-479A-8C04-AC7F4964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721E3-795E-4473-B316-93C664A7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3AB9F-BC29-4155-9CCA-8C0696D3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537-CA8F-41BF-9018-0598471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4F8F2-5B32-4B3B-9961-4A2FD690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EFF15-E65F-4C20-B5D8-A911BE2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9FE83-0A4D-4F0D-81AC-3069BE2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1B429-4F02-4AD8-AAC0-8CADE7C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C5D02-9027-4C80-8E19-07B7DD2F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006AD-D63C-4604-92B0-B21782C3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C690B-6EC9-4DC2-B831-046103C1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B9C5-B0A5-4D02-AD13-4BA2A033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9F25-2C90-432B-9364-8FF3AA2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469A-DF8A-4837-938B-1977DA0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A7B-98E5-454D-B643-147F04C9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CA86-D14C-4F2B-A3BA-BE8D06D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6AD6-A756-4A39-A0CD-F6F6E359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85E3-F495-47F9-8ECE-2331592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E134-6DBB-441D-9368-CE73732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64C1-6413-4962-8461-35DF16C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C9FC-5DCB-4130-935C-6391612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3A664-091F-4F1D-BF4B-CF62D35B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36E4-622C-4618-A73D-4BD0232E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5D9B-8EEE-4F91-8FBA-F9F41B48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D7A-0430-450F-80BA-9F7C0DD4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D78-8FB3-48B3-AC4E-F1B75AB0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CD5-466F-42F5-B15D-EE9C6BD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2DC-411D-455F-A549-86F60FE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769-2FA3-43E4-BCF2-CA0696F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820-7708-45D8-9AE3-E91A84EFBB0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995-D543-4A63-B6F8-7AF1A206F19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F1A4-544A-4DA5-AD39-C745A2ACD94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143-13C9-4ABE-8CA9-4CB4C8D1E65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yvision2000.com/history/catherine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Homework Bell Ring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What Russian dynasty will be the last dynasty in Russia – begun by Peter the Great’s father and ended with the execution of Czar Nicholas II during WW1.  The mystery remains whether young Anastasia survived to continue the famil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2-1"/>
          <p:cNvPicPr/>
          <p:nvPr/>
        </p:nvPicPr>
        <p:blipFill>
          <a:blip r:embed="rId1"/>
          <a:stretch/>
        </p:blipFill>
        <p:spPr>
          <a:xfrm>
            <a:off x="0" y="1116000"/>
            <a:ext cx="5029200" cy="34066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182556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2" descr="The fortress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247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horsem350_fi"/>
          <p:cNvPicPr/>
          <p:nvPr/>
        </p:nvPicPr>
        <p:blipFill>
          <a:blip r:embed="rId3"/>
          <a:stretch/>
        </p:blipFill>
        <p:spPr>
          <a:xfrm>
            <a:off x="4952880" y="3733920"/>
            <a:ext cx="4572000" cy="32526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5"/>
          <p:cNvSpPr/>
          <p:nvPr/>
        </p:nvSpPr>
        <p:spPr>
          <a:xfrm>
            <a:off x="657360" y="4078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. Petersb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609480" y="4575240"/>
            <a:ext cx="42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’s Versailles, 100,000s died trying to make a city out of a swa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fd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hieve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8"/>
          <p:cNvSpPr/>
          <p:nvPr/>
        </p:nvSpPr>
        <p:spPr>
          <a:xfrm>
            <a:off x="2666880" y="2438280"/>
            <a:ext cx="4648320" cy="3353040"/>
          </a:xfrm>
          <a:prstGeom prst="wedgeEllipseCallout">
            <a:avLst>
              <a:gd name="adj1" fmla="val -53416"/>
              <a:gd name="adj2" fmla="val 553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coercive labor system that will last in Russia until their emancipation in 186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d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47640" y="4507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nternal reform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80880" y="1905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ganized government – establish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na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highest institution.  Encouraged commoners to be part of this. (he will let it meet, but it has no enforceable pow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088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tax to establish himself internationally – everything was taxed – coffins, hats, cucumb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10320" y="3581280"/>
            <a:ext cx="63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ed national manufacturing an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07440" y="4191120"/>
            <a:ext cx="56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ussian regular army and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0492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nobles to work for military and civil functions.  Forced them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ve be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e more wes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228600" y="567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scated Russian Orthodox money for government use.  Prohibited men under 30 from becoming mo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4235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actice Regents – Jan 2014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680" y="2209680"/>
            <a:ext cx="741528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happened in Russia as a result of actions taken by Peter the Grea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1) Russia was weakened by French invasion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2) Catholicism was adopted as the state relig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3) The Duma was reformed and the serfs we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ree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4) Russia borrowed Western ideas and expanded its territor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83808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ei, son of Peter’s first wife, did not want to be tsar and took little interest in government.  Af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ex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ally renounced his claim to the throne he was place in prison, tortured on the rack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cuted for trea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ho opposed Peter’s will were killed in mass exec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914400" y="34290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divorced his first wife who had little understanding of his motives and desires.  He remarries a serving girl named Martha – renamed Catherine I.  She was often the only one who understood him and who could calm his rages.  They had five children, only two girls surv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1143000" y="5486400"/>
            <a:ext cx="6858000" cy="1371600"/>
          </a:xfrm>
          <a:custGeom>
            <a:avLst/>
            <a:gdLst>
              <a:gd name="textAreaLeft" fmla="*/ 1017360 w 6858000"/>
              <a:gd name="textAreaRight" fmla="*/ 5840640 w 6858000"/>
              <a:gd name="textAreaTop" fmla="*/ 17136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30" y="0"/>
                </a:lnTo>
                <a:arcTo wR="675" hR="675" stAng="16200000" swAng="5400000"/>
                <a:lnTo>
                  <a:pt x="5905" y="2700"/>
                </a:lnTo>
                <a:lnTo>
                  <a:pt x="15695" y="2700"/>
                </a:lnTo>
                <a:lnTo>
                  <a:pt x="15695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95" y="18900"/>
                </a:lnTo>
                <a:lnTo>
                  <a:pt x="18395" y="20925"/>
                </a:lnTo>
                <a:arcTo wR="675" hR="675" stAng="0" swAng="5400000"/>
                <a:lnTo>
                  <a:pt x="3880" y="21600"/>
                </a:lnTo>
                <a:arcTo wR="675" hR="675" stAng="5400000" swAng="5400000"/>
                <a:lnTo>
                  <a:pt x="3205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05" y="675"/>
                </a:moveTo>
                <a:arcTo wR="675" hR="675" stAng="0" swAng="5400000"/>
                <a:lnTo>
                  <a:pt x="3880" y="1350"/>
                </a:lnTo>
                <a:arcTo wR="675" hR="675" stAng="16200000" swAng="-5400000"/>
                <a:arcTo wR="675" hR="675" stAng="10800000" swAng="-5400000"/>
                <a:lnTo>
                  <a:pt x="5905" y="2700"/>
                </a:lnTo>
              </a:path>
              <a:path fill="none" w="21600" h="21600">
                <a:moveTo>
                  <a:pt x="15695" y="675"/>
                </a:moveTo>
                <a:arcTo wR="675" hR="675" stAng="10800000" swAng="-5400000"/>
                <a:lnTo>
                  <a:pt x="17720" y="1350"/>
                </a:lnTo>
                <a:arcTo wR="675" hR="675" stAng="16200000" swAng="5400000"/>
                <a:arcTo wR="675" hR="675" stAng="0" swAng="5400000"/>
                <a:lnTo>
                  <a:pt x="15695" y="2700"/>
                </a:lnTo>
              </a:path>
              <a:path fill="none" w="21600" h="21600">
                <a:moveTo>
                  <a:pt x="3205" y="2025"/>
                </a:moveTo>
                <a:lnTo>
                  <a:pt x="3205" y="18900"/>
                </a:lnTo>
              </a:path>
              <a:path fill="none" w="21600" h="21600">
                <a:moveTo>
                  <a:pt x="18395" y="2025"/>
                </a:moveTo>
                <a:lnTo>
                  <a:pt x="18395" y="18900"/>
                </a:lnTo>
              </a:path>
            </a:pathLst>
          </a:cu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“Terrible” Rus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 does this remind you 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domik350"/>
          <p:cNvPicPr/>
          <p:nvPr/>
        </p:nvPicPr>
        <p:blipFill>
          <a:blip r:embed="rId1"/>
          <a:stretch/>
        </p:blipFill>
        <p:spPr>
          <a:xfrm>
            <a:off x="4952880" y="0"/>
            <a:ext cx="4008600" cy="48387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609480" y="838080"/>
            <a:ext cx="41911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living quarters built in the newly founded city of St Petersburg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wooden house (cabin) - only 60 sq. meters, but made to look like stone (Europ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ar Peter lived in this house between 1703 and 17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letsad_fi"/>
          <p:cNvPicPr/>
          <p:nvPr/>
        </p:nvPicPr>
        <p:blipFill>
          <a:blip r:embed="rId1"/>
          <a:stretch/>
        </p:blipFill>
        <p:spPr>
          <a:xfrm>
            <a:off x="2362320" y="0"/>
            <a:ext cx="5105160" cy="35877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380880" y="356868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the Great wanted a European pleasure park in his new and beloved "paradise" - St Petersbur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eter's new park everything was done according to the latest fashion: all trees and bushes were trimmed in the most elaborate way, all the alleys were decorated with marble statues and fount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……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429000" y="3124080"/>
            <a:ext cx="53578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76360" y="458964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roque Winter Palace was built in 1754-62 for Empress Elisabeth, daughter of Peter the Great. By the time it was completed Elisabeth had already died, and only </a:t>
            </a:r>
            <a:r>
              <a:rPr b="0" lang="en-US" sz="24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Catherine the Great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r successors could enjoy their new h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0" descr="Hermitage Winter Palace"/>
          <p:cNvPicPr/>
          <p:nvPr/>
        </p:nvPicPr>
        <p:blipFill>
          <a:blip r:embed="rId2"/>
          <a:stretch/>
        </p:blipFill>
        <p:spPr>
          <a:xfrm>
            <a:off x="0" y="0"/>
            <a:ext cx="71629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1"/>
          <p:cNvSpPr/>
          <p:nvPr/>
        </p:nvSpPr>
        <p:spPr>
          <a:xfrm>
            <a:off x="533520" y="11905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 the Winter Palace, together with four more buildings houses the extensive collections of the Hermitage. The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Hermitage Muse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argest art gallery in Russia and is among the largest and most respected art museums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http://upload.wikimedia.org/wikipedia/en/thumb/2/20/Amorial_Hall.jpg/250px-Amorial_Hall.jpg"/>
          <p:cNvPicPr/>
          <p:nvPr/>
        </p:nvPicPr>
        <p:blipFill>
          <a:blip r:embed="rId1"/>
          <a:stretch/>
        </p:blipFill>
        <p:spPr>
          <a:xfrm>
            <a:off x="4529160" y="3733920"/>
            <a:ext cx="3776760" cy="2840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http://imgc.allpostersimages.com/images/P-473-488-90/40/4050/WXALF00Z/posters/yadid-levy-main-staircase-at-the-winter-palace-st-petersburg-russia-europe.jpg"/>
          <p:cNvPicPr/>
          <p:nvPr/>
        </p:nvPicPr>
        <p:blipFill>
          <a:blip r:embed="rId2"/>
          <a:stretch/>
        </p:blipFill>
        <p:spPr>
          <a:xfrm>
            <a:off x="4495680" y="71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4800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hl5"/>
          <p:cNvPicPr/>
          <p:nvPr/>
        </p:nvPicPr>
        <p:blipFill>
          <a:blip r:embed="rId1"/>
          <a:stretch/>
        </p:blipFill>
        <p:spPr>
          <a:xfrm>
            <a:off x="0" y="2270160"/>
            <a:ext cx="2835360" cy="4587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Portrait of Peter the Great"/>
          <p:cNvPicPr/>
          <p:nvPr/>
        </p:nvPicPr>
        <p:blipFill>
          <a:blip r:embed="rId2"/>
          <a:stretch/>
        </p:blipFill>
        <p:spPr>
          <a:xfrm>
            <a:off x="5715000" y="0"/>
            <a:ext cx="3516480" cy="4343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811800" y="304920"/>
            <a:ext cx="429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Russi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Absolut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611880" y="4978440"/>
            <a:ext cx="403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ov Dynas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613 – 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atherine the Great -- Media -- Encarta ® Online 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2511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457200" y="304920"/>
            <a:ext cx="5045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Catherine the G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(1729 – 17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princess who learned Russian and converted to Eastern Orthodox from Luth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husband, Peter III, planned to rid himself of Catherine.  She with her imperial guards and one of her 21 lovers overthrew Peter in a palace coup.  She proceeded to rule for 34 yea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334120" y="327672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title “Great” for her aggressive foreign policy –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defeated Ottoman Emp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Black Sea for warm-water port. 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Divided Poland into three parts with Prussia and Aus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0880" y="83808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nobles by giving them a char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ir rights (like Magna Charta) – exempted from taxes and excused them from the service to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Serfs were not given cha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hey rebelled and an even tighter control over them was enforced.  Catherine called herself the “first landlord of the real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358128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Age of Enlighten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howed intellectual accomplishment.  Believed that “a wise ruler favors reason over passion to best ensure welfare of subjects and bolster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autocra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government.”  Inspired by writings of Voltaire and Montesqu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ractice Regents</a:t>
            </a:r>
            <a:br>
              <a:rPr sz="3600"/>
            </a:b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– Aug 2013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676160"/>
            <a:ext cx="7772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pported refor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lieved in natural rights &amp; religious toler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Viewed themselves as servants of their sta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the 18th century, European leaders that fi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se characteristics were best known 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1) theocratic monarch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2) enlightened despo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3) totalitarian dictato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4) prime minist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romanov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Reminder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Why was Russia more like Asia than Europe during the Middle Ages and the early Renaissanc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5181480" y="3505320"/>
            <a:ext cx="3657600" cy="2971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gols (Golden Hor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cut off Rus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Europe – conn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 to Central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Reminder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</a:rPr>
              <a:t>What are some of the things that absolute monarchs do during their reign?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Go to war (improve military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Reduce power of the nobl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Build architectural works to show their glo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ave control over most aspect of people’s liv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Control relig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365040" y="270000"/>
            <a:ext cx="5045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ter the Great </a:t>
            </a:r>
            <a:r>
              <a:rPr b="0" lang="en-US" sz="2400" spc="-1" strike="noStrike">
                <a:solidFill>
                  <a:srgbClr val="94c6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672-17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ruggle when he (age 10) became tzar (sister &amp; brother co-ruled until overthrown or d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goal was to westernize and modernize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hundreds of Russians to European capitals to learn government, arts, and economic strate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22840" y="4537080"/>
            <a:ext cx="32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ing figure – tall (6’8”) who physically labored, active navy officer, ship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5-Point Star 1"/>
          <p:cNvSpPr/>
          <p:nvPr/>
        </p:nvSpPr>
        <p:spPr>
          <a:xfrm>
            <a:off x="4495680" y="3538440"/>
            <a:ext cx="914400" cy="76212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" y="291057"/>
                </a:moveTo>
                <a:lnTo>
                  <a:pt x="349272" y="291059"/>
                </a:lnTo>
                <a:lnTo>
                  <a:pt x="457200" y="0"/>
                </a:lnTo>
                <a:lnTo>
                  <a:pt x="565128" y="291059"/>
                </a:lnTo>
                <a:lnTo>
                  <a:pt x="914399" y="291057"/>
                </a:lnTo>
                <a:lnTo>
                  <a:pt x="631832" y="470940"/>
                </a:lnTo>
                <a:lnTo>
                  <a:pt x="739765" y="761998"/>
                </a:lnTo>
                <a:lnTo>
                  <a:pt x="457200" y="582112"/>
                </a:lnTo>
                <a:lnTo>
                  <a:pt x="174635" y="761998"/>
                </a:lnTo>
                <a:lnTo>
                  <a:pt x="282568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0070c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7" descr="http://www.myartprints.com/kunst/french_school/portrait_peter_great_1672_172_hi.jpg"/>
          <p:cNvPicPr/>
          <p:nvPr/>
        </p:nvPicPr>
        <p:blipFill>
          <a:blip r:embed="rId1"/>
          <a:stretch/>
        </p:blipFill>
        <p:spPr>
          <a:xfrm>
            <a:off x="5394240" y="152280"/>
            <a:ext cx="3353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026"/>
          <p:cNvSpPr/>
          <p:nvPr/>
        </p:nvSpPr>
        <p:spPr>
          <a:xfrm>
            <a:off x="974880" y="574560"/>
            <a:ext cx="717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mportant act of Peter’s reign was a campaign against the Ottoman Turks.  He needed western help, so went incognito to Europe’s capital for help.  On thi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at Embas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he saw and was inspi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 Colle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sen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er of Lond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not able to convince European countries to assist him.  Peter had to make peace with the Tu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027"/>
          <p:cNvSpPr/>
          <p:nvPr/>
        </p:nvSpPr>
        <p:spPr>
          <a:xfrm>
            <a:off x="5486400" y="2209680"/>
            <a:ext cx="3657600" cy="2667240"/>
          </a:xfrm>
          <a:prstGeom prst="cloudCallout">
            <a:avLst>
              <a:gd name="adj1" fmla="val -70745"/>
              <a:gd name="adj2" fmla="val -818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he hope to achieve by attacking the Ottom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026"/>
          <p:cNvSpPr/>
          <p:nvPr/>
        </p:nvSpPr>
        <p:spPr>
          <a:xfrm>
            <a:off x="461880" y="838080"/>
            <a:ext cx="8072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then sought access to Baltic Sea and Baltic trade from Sweden so that he could have trade with Europe.  Attacked Charles XII of Sweden and defeated him in 172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1034" descr="Map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Picture 4" descr="Map of Russia"/>
          <p:cNvPicPr/>
          <p:nvPr/>
        </p:nvPicPr>
        <p:blipFill>
          <a:blip r:embed="rId1"/>
          <a:stretch/>
        </p:blipFill>
        <p:spPr>
          <a:xfrm>
            <a:off x="228600" y="2666880"/>
            <a:ext cx="8915400" cy="45547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Moved capital from Moscow to St. Petersburg (1703) to have acces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rm water ports and window to west</a:t>
            </a: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) to Baltic Se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Picture 7" descr="Trinity Square in St. Petersburg"/>
          <p:cNvPicPr/>
          <p:nvPr/>
        </p:nvPicPr>
        <p:blipFill>
          <a:blip r:embed="rId2"/>
          <a:stretch/>
        </p:blipFill>
        <p:spPr>
          <a:xfrm>
            <a:off x="3733920" y="2666880"/>
            <a:ext cx="5410080" cy="4491000"/>
          </a:xfrm>
          <a:prstGeom prst="rect">
            <a:avLst/>
          </a:prstGeom>
          <a:ln w="0">
            <a:noFill/>
          </a:ln>
        </p:spPr>
      </p:pic>
      <p:sp>
        <p:nvSpPr>
          <p:cNvPr id="361" name="5-Point Star 1"/>
          <p:cNvSpPr/>
          <p:nvPr/>
        </p:nvSpPr>
        <p:spPr>
          <a:xfrm>
            <a:off x="6477120" y="1523880"/>
            <a:ext cx="914400" cy="76212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" y="291057"/>
                </a:moveTo>
                <a:lnTo>
                  <a:pt x="349272" y="291059"/>
                </a:lnTo>
                <a:lnTo>
                  <a:pt x="457200" y="0"/>
                </a:lnTo>
                <a:lnTo>
                  <a:pt x="565128" y="291059"/>
                </a:lnTo>
                <a:lnTo>
                  <a:pt x="914399" y="291057"/>
                </a:lnTo>
                <a:lnTo>
                  <a:pt x="631832" y="470940"/>
                </a:lnTo>
                <a:lnTo>
                  <a:pt x="739765" y="761998"/>
                </a:lnTo>
                <a:lnTo>
                  <a:pt x="457200" y="582112"/>
                </a:lnTo>
                <a:lnTo>
                  <a:pt x="174635" y="761998"/>
                </a:lnTo>
                <a:lnTo>
                  <a:pt x="282568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00b0f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1:45:57Z</dcterms:created>
  <dc:creator>Anne Jean Lyons</dc:creator>
  <dc:description/>
  <dc:language>en-US</dc:language>
  <cp:lastModifiedBy>Windows User</cp:lastModifiedBy>
  <dcterms:modified xsi:type="dcterms:W3CDTF">2014-05-07T10:54:54Z</dcterms:modified>
  <cp:revision>35</cp:revision>
  <dc:subject/>
  <dc:title>PowerPoint Presentation</dc:title>
</cp:coreProperties>
</file>